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0E8-AA40-463D-B326-863BC3A4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EA0-35A9-4479-AD74-0C15B07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9E5-8C67-4FF3-85A1-031B849F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DD2-6658-4DEB-ABE4-72F5863E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7494-CF5F-4534-8BD5-AD3EA212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D0FA-B7B1-4A8A-933B-0C63F57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2AA-1190-459F-96E0-0E307649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1DD0-51A5-4C00-8C89-38FE9AA2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7E29-0834-42AC-8013-2D3D67E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8CD-E4AE-4F7D-831E-BAB0571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B55B-4739-4894-915F-2688B32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AB2-E64F-4A28-A160-5FCDA38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6C5A-FEF8-4B24-AE44-9F7F48A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F0E3-3770-426D-BC47-AA3E9EB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5E14-A211-4A18-836F-D616CB4C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9D9-C88E-44BF-9648-DBCD75A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3189-9D0F-44A2-AC6B-BEC1B876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EA6F-CC93-40E5-9062-60FE2ACA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0211-20F7-4E86-8408-6B9FBEAB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BCD2-76E6-4B97-BBC1-FF4C49A8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9F45-A4AF-4166-87B2-0A3E03CC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2C99-CA97-4B03-BE16-02D857E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C62-4374-4730-A2CE-F884A8E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9D80-2BBB-4F26-82BB-FFDD9E9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0804-3257-4E95-B72C-0AB6BE5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1157-D555-4B75-A103-4819CF7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1994-7733-40AF-A67D-78F3715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2F22-B142-4B85-B92E-788932D1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6B27-C48E-4251-AA76-9625BDD1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687A-7BAE-4CEF-BB40-A112438D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CB54-D239-48EA-99A8-CED33A14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F9B6-5351-44FD-965C-085A8AC9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6D21-C68F-48FC-9EF8-265E0EC3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13A-3A94-4BD2-9960-C327C40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BE8D-EACD-4A13-A268-60146E88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9A08-4057-42DA-9617-7A656F67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F1F7-73E7-4E49-A2A5-0E7A7C1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F4C5-4333-4CE0-B4C4-9389125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697A-7C01-4069-82E7-14B3259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5DDC-C411-46D8-AA84-A9C81F59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B621-AA3F-48BC-BFA4-6C791D3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BA48-5110-4DAF-A499-4386B4FB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5E7F-6403-41A3-9843-7D7ED7F1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D427-9894-49B4-AA01-39ADF599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988-1AB3-4EC2-9AB0-840E46EF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2124-91D1-4BBB-B92C-4F598051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F9CC-BDDC-4C94-BD40-F0F214F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09823-7367-44FB-9F6C-14C7F07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C6B2-46BC-4382-B95D-8384C1C3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2DCC-DA6D-4763-A832-4AE9B9D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94C4-5479-4E9F-9A3E-150F349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2806-5EE4-40F7-8368-4E9F038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BDE4-3023-414C-B19F-175D06B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59EA-2641-4948-A8D2-0BA47B8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57C4-EEC6-4BE1-AA19-76F031A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166-082F-4127-A248-81A1C73B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E18A-0B95-4A9F-921B-A84F6CAB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63F-55A8-40EB-90BE-EBD1878D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D85-0F7B-4786-BF39-60ADA11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491-E01B-48E9-B54E-CE9FBFC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26CA-D70F-41F8-AC31-210BD9697A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14F-FCFA-439A-9D8A-DD55645999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ED6-FDE3-4ADE-ADD4-1D13111456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A53-346E-4A95-BEDC-0360A50B35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DBBC-E1B9-48B6-842B-945DD891D43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685440"/>
            <a:ext cx="740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bulous Photostory and Vocaroo Pro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2590920"/>
            <a:ext cx="74070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20e04"/>
                </a:solidFill>
                <a:latin typeface="Gill Sans MT"/>
              </a:rPr>
              <a:t>Lakeview Academy Summer Institu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cial Need Childr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with speech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 instructions to children who need oral dire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children may be able to communicate better giving oral respon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line Slidesh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ck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hotope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fore You Begi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nk about your project and what you want to accompli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Photostor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great for creating a present for the parents with photos or art wor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Vocaroo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a quick voice recording which can be used numerous ways in the classroo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nline Slideshows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e fun for creating slide shows to post online.  Embed in your blog or wik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eating a Photostory Proj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47920" y="1447560"/>
            <a:ext cx="748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n Photost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ort pictures and titl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x red eye, color issues, and cr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text and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nar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ustomize motion/transi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background music or create your ow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av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ve “project” – allows you continue working on your pro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ve “story” – will put your project in final for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rn your final story to a CD and send it home as a Christmas or year end gift to par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705720" cy="41907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roo Proje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75248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and Recor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caroo – its free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te an account if you would like but it is not necess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6324480" cy="39528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ter you record you can e-mail it, embed it in a wiki or blog, or link to the interne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-mail 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s love hearing from their children during the 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a special time to have children tell their parents what they are doing or just that they love th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quick, easy and the parents will think you’re the greates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ssroom Us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g fluency – “reading smoothly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o practice foreign language  pronunci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bed welcome messages, messages for parents, news, or assignments, in classroom blogs and wik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bed students voices reading journal entries, commenting on a project,  or “what we did at school today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38:30Z</dcterms:created>
  <dc:creator>Fac - Montgomery,Bruce</dc:creator>
  <dc:description/>
  <dc:language>en-US</dc:language>
  <cp:lastModifiedBy>Fac - Montgomery,Bruce</cp:lastModifiedBy>
  <dcterms:modified xsi:type="dcterms:W3CDTF">2009-07-26T18:13:00Z</dcterms:modified>
  <cp:revision>50</cp:revision>
  <dc:subject/>
  <dc:title>Slide 1</dc:title>
</cp:coreProperties>
</file>